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F9720E57-9B63-4726-BFED-5F585051D0A9}" type="datetime">
              <a:rPr b="0" lang="es-ES" sz="13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5FE72413-6EF3-44BA-95FA-E18272222F1A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6208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61840" y="4862160"/>
            <a:ext cx="5375520" cy="4311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t judgement -&gt; climate services always need expert judgment (tools + material not enough) material important, but human aspect is important and we need people to bridge gap b/w scientist and u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 Application Programming Inte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S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d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sca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D03FCBCE-6A8B-4EBC-9CBD-D0CC59F12521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given by energy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200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forec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ings behind the low wind in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eting with user and 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 Produce autmo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of ENSO on wind speed – regression of sfc wind speed on nino3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728432DD-50D9-402A-9203-EF8116B53DEF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ll over a region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and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onding to request from cie – interactive portal to explore seasonal forec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78E25FE7-A7B0-4CAC-9647-9EDED3AEA688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676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? CHF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mate historical forecas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pository of seasonal forecast experiment past 15 years hosted ini Un. Buenos A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6676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PL license which allows for redistribution and commercial u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ffer software and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No shortage of problem? Justification of the pro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hop – BS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ind – coord initial shock and drift : PREFACE + SPECS + WCRP (welcome as attende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Barcel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 in a patient, symptom, but disease is burie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88C3429B-43E8-4A75-AB1B-74662809EF4E}" type="slidenum">
              <a:rPr b="0" lang="es-E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6208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61840" y="4862160"/>
            <a:ext cx="5375520" cy="4311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Why? Link with RCOF, NHMS – MetCOF (southern European + northern Afric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alisation tools -&gt; Statistial (downscal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emnitation and communication protocol – factsheet + dissimantino data, what s2d is, climate4impact por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new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dvantage of development from other communities (climate change, weather forecasting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ve vegetation in the land surface, included in cc model, in seasonal forecasting impact LAI + albedo, bring predict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COF regional climate outlook forum, WMO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HMS national hydro meteorological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 west African mons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T4  make the most of what is currently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T5 development of empirical model (for s2d) used as benchmark + make forecast to be reliable through postproce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T Research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T6 interaction with EUPOR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blem posed by user and given to modelers (only scientist who can say if the model output can be use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+Dissimination linking to other portal (climate explorer, climate4impact) + WMO (world climate research program +GFCS) + Training (MetCOF) + factsheet + RCOF (West and East Afric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FCS Global framework for climate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6676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? Link previous page – require lot of cpu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ually run a few members (5-10) – results sensitive to ensemble size and decision is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ut sometimes large ensemble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eriments are very expensive ‘: many start dates and large ensemble to have robust resul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romise has to be taken – issue addressed by SPE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66760" y="896760"/>
            <a:ext cx="4768920" cy="35769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e of empirical forecast system as benchmark for G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semble of empirical forecast with full forecast 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nana vs ban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quivalent for decad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del is global and probabil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62080" y="89208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61840" y="4862160"/>
            <a:ext cx="5375520" cy="4311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50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incr.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land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sea ice + snow init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interactive troposphere aeros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ini volcanic aeros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879D-5285-4D20-B008-B601D2C48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5A54-FEC6-4F52-B640-95E3AD567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82D9-B67F-45A8-BE7B-40F58ADCE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1E48-15E4-4466-9D70-A3769D428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8F82-11BC-4E79-AA36-ECF622347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E249F-BD4D-4852-8F70-50967D47C9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F829D-C7E2-438B-89C7-12D56DE6AA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1B4A3-C007-4032-83F0-77F17B15FC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D5583-0DF8-4BB5-9B67-B659B3327F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131F8-2836-43CA-801F-5395CAB53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4C44-0324-4B92-91E3-F168D0D884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F8008-5B92-4B60-93CE-E0B5AE03FE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5EFC2-E275-4976-A430-7CF8C23474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282AC-6C01-404A-97B5-24B5F6C0F4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6EB89-DC6D-432B-A61E-69A3B5AB08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3B5EE-D8C7-4266-8BEF-B2027D5B89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F6214-A622-4E82-B12E-ED390C1E46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FB800-DAC3-45A7-8244-E10A0464C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F3EA-D0D4-4F6A-A9AD-876FEBB7A2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7E0E-8AF0-4F7A-AB06-26C8BCAAB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36FF-13AD-45B4-AD04-E96E1E99A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DBCC-B402-41D3-9DCF-995AE439C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C9B9-8F2D-4758-9EE1-1B22BB236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429F-453B-4627-B374-5C9A3B4B0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4680" y="6207120"/>
            <a:ext cx="2047680" cy="658800"/>
          </a:xfrm>
          <a:custGeom>
            <a:avLst/>
            <a:gdLst/>
            <a:ahLst/>
            <a:rect l="l" t="t" r="r" b="b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4680" y="6207120"/>
            <a:ext cx="9145440" cy="65880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55880" y="6362280"/>
            <a:ext cx="6286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ECS: Climate Predictions for Climate Services   CCCS Meeting 28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74400" y="6348960"/>
            <a:ext cx="35640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084C1-A297-49EA-9A06-43A424055125}" type="slidenum">
              <a:rPr b="0" lang="es-E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58680" y="250920"/>
            <a:ext cx="1706760" cy="557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images"/>
          <p:cNvPicPr/>
          <p:nvPr/>
        </p:nvPicPr>
        <p:blipFill>
          <a:blip r:embed="rId3"/>
          <a:stretch/>
        </p:blipFill>
        <p:spPr>
          <a:xfrm>
            <a:off x="8211960" y="184320"/>
            <a:ext cx="9064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Forma libre 11"/>
          <p:cNvSpPr/>
          <p:nvPr/>
        </p:nvSpPr>
        <p:spPr>
          <a:xfrm>
            <a:off x="3008160" y="5952960"/>
            <a:ext cx="6039000" cy="808200"/>
          </a:xfrm>
          <a:custGeom>
            <a:avLst/>
            <a:gdLst/>
            <a:ahLst/>
            <a:rect l="l" t="t" r="r" b="b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Imagen 17" descr="IC3_Logo_Vector.png"/>
          <p:cNvPicPr/>
          <p:nvPr/>
        </p:nvPicPr>
        <p:blipFill>
          <a:blip r:embed="rId2"/>
          <a:stretch/>
        </p:blipFill>
        <p:spPr>
          <a:xfrm>
            <a:off x="7899480" y="5952960"/>
            <a:ext cx="1198440" cy="80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ight Triangle 1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ight Triangle 17"/>
          <p:cNvSpPr/>
          <p:nvPr/>
        </p:nvSpPr>
        <p:spPr>
          <a:xfrm rot="5400000">
            <a:off x="434160" y="-434160"/>
            <a:ext cx="6858000" cy="772632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3032280" y="6284520"/>
            <a:ext cx="520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34342"/>
                </a:solidFill>
                <a:latin typeface="Times New Roman"/>
              </a:rPr>
              <a:t>SPECS: Climate Predictions for Climate Services</a:t>
            </a: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   CCCS Meeting 29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3C268-1430-47D7-8AA0-D0E76942BFFF}" type="slidenum">
              <a:rPr b="0" lang="es-ES" sz="1600" spc="-1" strike="noStrike">
                <a:solidFill>
                  <a:srgbClr val="434342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limate4impact.eu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572000" y="991080"/>
            <a:ext cx="447516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SPEC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Prediction for Climate Servi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SPECS Logo Final Proposal"/>
          <p:cNvPicPr/>
          <p:nvPr/>
        </p:nvPicPr>
        <p:blipFill>
          <a:blip r:embed="rId1"/>
          <a:stretch/>
        </p:blipFill>
        <p:spPr>
          <a:xfrm>
            <a:off x="6105600" y="5932440"/>
            <a:ext cx="1684440" cy="774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2843280" y="4372920"/>
            <a:ext cx="62625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Louis-Philippe Car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SC-CNS, Barcelona, Spai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7" descr="logo_BSC2"/>
          <p:cNvPicPr/>
          <p:nvPr/>
        </p:nvPicPr>
        <p:blipFill>
          <a:blip r:embed="rId2"/>
          <a:srcRect l="0" t="0" r="23921" b="50080"/>
          <a:stretch/>
        </p:blipFill>
        <p:spPr>
          <a:xfrm>
            <a:off x="7910640" y="5932440"/>
            <a:ext cx="113652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F829B-1E8F-4161-8F1A-A9D255D3A0A2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beyond usual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onvention defined for climate predictions to be full part of other climate data dissemination infrastructure (including CMIP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imate prediction fact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ibution to portals, b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 beyond portals, focus on APIs (made public also for commercial purpo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xpert judgement cannot be made automatic in a forecast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-driven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34920" y="898560"/>
            <a:ext cx="90536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liability diagrams of initialised MME for left) basin-wide ACE and centre) U.S. ACE and right) uninitalised MME U.S. ACE 1-5 year forecasts for anomalies above the mean over 1961-2009. Statistically significant values are in bol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-200520" y="5840280"/>
            <a:ext cx="297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aron et al. (GRL, 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5" name="1 Imagen" descr=""/>
          <p:cNvPicPr/>
          <p:nvPr/>
        </p:nvPicPr>
        <p:blipFill>
          <a:blip r:embed="rId1"/>
          <a:stretch/>
        </p:blipFill>
        <p:spPr>
          <a:xfrm>
            <a:off x="272880" y="3029040"/>
            <a:ext cx="5840640" cy="2498760"/>
          </a:xfrm>
          <a:prstGeom prst="rect">
            <a:avLst/>
          </a:prstGeom>
          <a:ln w="0">
            <a:noFill/>
          </a:ln>
        </p:spPr>
      </p:pic>
      <p:pic>
        <p:nvPicPr>
          <p:cNvPr id="206" name="5 Imagen" descr=""/>
          <p:cNvPicPr/>
          <p:nvPr/>
        </p:nvPicPr>
        <p:blipFill>
          <a:blip r:embed="rId2"/>
          <a:stretch/>
        </p:blipFill>
        <p:spPr>
          <a:xfrm>
            <a:off x="5973840" y="3097080"/>
            <a:ext cx="2927160" cy="246852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44304-CDEF-4D9C-A252-D8B2E8CC1C88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driven sc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287280" y="1405080"/>
            <a:ext cx="37004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ports on wind-energy potential produced in collaboration with EUPORIAS where both science and user requests meet in a single documen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86192-134F-4326-935E-00C7A96617F1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4362480" y="860400"/>
            <a:ext cx="3821040" cy="52941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5099040" y="1619280"/>
            <a:ext cx="33984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525600" y="1392120"/>
            <a:ext cx="8089920" cy="44150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driven port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4BBED-CDE0-409B-A3F0-4194C6C2F431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34920" y="898560"/>
            <a:ext cx="9053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ttps://giotto.casaccia.enea.it/specs-solar/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-205560" y="5840280"/>
            <a:ext cx="402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 Felice et al. (Appl. Energy, 2014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40171-F4E5-4B27-B2F0-86BF28F1AF8C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ised data repository at BADC with files using a convention building on both CMIP5 and CHFP and that is expected to become the basis for CMIP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ublished on the ESG after quality control reachable by other SPECS-related services (ECOMS UDG, Climate Explorer, et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sensitivity experiments and NMME data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33"/>
          <p:cNvPicPr/>
          <p:nvPr/>
        </p:nvPicPr>
        <p:blipFill>
          <a:blip r:embed="rId1"/>
          <a:srcRect l="11116" t="19143" r="11116" b="10939"/>
          <a:stretch/>
        </p:blipFill>
        <p:spPr>
          <a:xfrm>
            <a:off x="1046160" y="2881440"/>
            <a:ext cx="7050240" cy="3220920"/>
          </a:xfrm>
          <a:prstGeom prst="rect">
            <a:avLst/>
          </a:prstGeom>
          <a:ln w="0">
            <a:noFill/>
          </a:ln>
        </p:spPr>
      </p:pic>
      <p:sp>
        <p:nvSpPr>
          <p:cNvPr id="225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012A1-7B15-45C0-9A14-39D265589B8C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CS data are now visible from the Climate4impact portal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Verdana"/>
                <a:hlinkClick r:id="rId1"/>
              </a:rPr>
              <a:t>http://climate4impact.e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ts of work still missing: e.g. use cases and processing demonstration video for climate predi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ownstream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1 Imagen" descr=""/>
          <p:cNvPicPr/>
          <p:nvPr/>
        </p:nvPicPr>
        <p:blipFill>
          <a:blip r:embed="rId2"/>
          <a:stretch/>
        </p:blipFill>
        <p:spPr>
          <a:xfrm>
            <a:off x="895320" y="2160720"/>
            <a:ext cx="7373880" cy="399096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34050-048E-4897-AE8D-862A73F09924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on tools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5" descr="00"/>
          <p:cNvPicPr/>
          <p:nvPr/>
        </p:nvPicPr>
        <p:blipFill>
          <a:blip r:embed="rId1"/>
          <a:srcRect l="20920" t="22564" r="2324" b="2821"/>
          <a:stretch/>
        </p:blipFill>
        <p:spPr>
          <a:xfrm>
            <a:off x="1274760" y="831960"/>
            <a:ext cx="6541920" cy="5240160"/>
          </a:xfrm>
          <a:prstGeom prst="rect">
            <a:avLst/>
          </a:prstGeom>
          <a:ln w="0">
            <a:noFill/>
          </a:ln>
        </p:spPr>
      </p:pic>
      <p:sp>
        <p:nvSpPr>
          <p:cNvPr id="23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Text Box 9"/>
          <p:cNvSpPr/>
          <p:nvPr/>
        </p:nvSpPr>
        <p:spPr>
          <a:xfrm rot="19714800">
            <a:off x="328320" y="301572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  <a:ea typeface="Arial"/>
              </a:rPr>
              <a:t>All these functions and packages are publicly available without restric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23791-00AB-4776-ADA2-7ED905280988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eries of fact sheets has been created (available from the SPECS web site). Common vocabulary with EUPORIAS, targeting a wide audience, mimicking some material already existing to explain what climate change 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1 Imagen" descr=""/>
          <p:cNvPicPr/>
          <p:nvPr/>
        </p:nvPicPr>
        <p:blipFill>
          <a:blip r:embed="rId1"/>
          <a:stretch/>
        </p:blipFill>
        <p:spPr>
          <a:xfrm>
            <a:off x="1884240" y="1833480"/>
            <a:ext cx="5372280" cy="432432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2FE76-C6E6-48C8-9A97-21E05E686D6A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imate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ion from initial-value problems with weather forecasting at one end and multi-decadal to century projections as a forced boundary condition problem at the other, with climate prediction (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ub-seasonal, seasonal and decad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n the middle. Prediction involves initialization and systematic comparison with a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imultaneou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fer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-211680" y="5840280"/>
            <a:ext cx="372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apted from Meehl et al. (2009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222120" y="2889360"/>
            <a:ext cx="8686800" cy="2898720"/>
            <a:chOff x="222120" y="2889360"/>
            <a:chExt cx="8686800" cy="2898720"/>
          </a:xfrm>
        </p:grpSpPr>
        <p:sp>
          <p:nvSpPr>
            <p:cNvPr id="144" name="Rectangle 6"/>
            <p:cNvSpPr/>
            <p:nvPr/>
          </p:nvSpPr>
          <p:spPr>
            <a:xfrm>
              <a:off x="1526760" y="2935440"/>
              <a:ext cx="4635720" cy="2852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266400" y="4284720"/>
              <a:ext cx="805644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Rectangle 8"/>
            <p:cNvSpPr/>
            <p:nvPr/>
          </p:nvSpPr>
          <p:spPr>
            <a:xfrm rot="10800000">
              <a:off x="1166400" y="5049360"/>
              <a:ext cx="75168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>
              <a:off x="266400" y="3970440"/>
              <a:ext cx="8507520" cy="4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312480" y="446400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Initial-value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5036760" y="527544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oundary-condition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7650000" y="405936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222120" y="3340080"/>
              <a:ext cx="125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eather forecast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1572840" y="2889360"/>
              <a:ext cx="2384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ubseasonal to seasonal forecasts (2 weeks-18 month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3958920" y="3114720"/>
              <a:ext cx="224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ecadal forecasts (18 months-30 year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6252840" y="3384720"/>
              <a:ext cx="22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limate-change projection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5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58680" y="914400"/>
            <a:ext cx="902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Global mean near-surface air temperature over the ocean (one-year running mean applied) from CMIP5 hindcasts. Each system is shown with a different colour. NCEP and ERA40/Int used as refere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96a1b"/>
                </a:solidFill>
                <a:latin typeface="Verdana"/>
                <a:ea typeface="Arial"/>
              </a:rPr>
              <a:t>Examples of shock, drift and large systematic error can be fou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7" name="Picture 5" descr="figure_AR5_11_5_final"/>
          <p:cNvPicPr/>
          <p:nvPr/>
        </p:nvPicPr>
        <p:blipFill>
          <a:blip r:embed="rId1"/>
          <a:srcRect l="0" t="3415" r="0" b="47820"/>
          <a:stretch/>
        </p:blipFill>
        <p:spPr>
          <a:xfrm>
            <a:off x="1933560" y="2279520"/>
            <a:ext cx="5264280" cy="3935520"/>
          </a:xfrm>
          <a:prstGeom prst="rect">
            <a:avLst/>
          </a:prstGeom>
          <a:ln w="0">
            <a:noFill/>
          </a:ln>
        </p:spPr>
      </p:pic>
      <p:sp>
        <p:nvSpPr>
          <p:cNvPr id="158" name="Title 2"/>
          <p:cNvSpPr/>
          <p:nvPr/>
        </p:nvSpPr>
        <p:spPr>
          <a:xfrm>
            <a:off x="65232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Decadal forecasts in CMIP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-232560" y="5880240"/>
            <a:ext cx="279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PCC AR5 WGI (201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60" name="2 Conector recto de flecha"/>
          <p:cNvCxnSpPr/>
          <p:nvPr/>
        </p:nvCxnSpPr>
        <p:spPr>
          <a:xfrm>
            <a:off x="2646000" y="3131640"/>
            <a:ext cx="370440" cy="1080"/>
          </a:xfrm>
          <a:prstGeom prst="straightConnector1">
            <a:avLst/>
          </a:prstGeom>
          <a:ln w="38160">
            <a:solidFill>
              <a:srgbClr val="76787b"/>
            </a:solidFill>
            <a:miter/>
            <a:headEnd len="med" type="arrow" w="med"/>
            <a:tailEnd len="med" type="arrow" w="med"/>
          </a:ln>
        </p:spPr>
      </p:cxnSp>
      <p:sp>
        <p:nvSpPr>
          <p:cNvPr id="161" name="4 CuadroTexto"/>
          <p:cNvSpPr/>
          <p:nvPr/>
        </p:nvSpPr>
        <p:spPr>
          <a:xfrm>
            <a:off x="2492280" y="27957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Arial"/>
              </a:rPr>
              <a:t>2-5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39B8D-220C-418F-B217-09AF3D92199E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42840" y="2951280"/>
            <a:ext cx="249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Joint SPECS-PREFACE-WCRP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Barcelona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Gothic"/>
              </a:rPr>
              <a:t>May 10-1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FBB47-CC9D-46CA-88BD-F44453413564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produce quasi-operational and actionable local climat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eed information with improved forecast quality, a focus on extreme climate events and enhanced communication and services for RCOFs, NHMSs and a wide range of public and private stake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ith a new generation of reliable European climate forecast systems, including initialised ESMs, efficient regionalisation tools and combination methods, and an enhanced dissemination and communication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ver land, focus on Europe, Africa,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asonal-to-decadal time scales over the longest possible observational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ttp://www.specs-fp7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134DD-0E8F-4C39-AFA6-C66DC15BB627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: Overa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rcRect l="8301" t="14173" r="9684" b="7349"/>
          <a:stretch/>
        </p:blipFill>
        <p:spPr>
          <a:xfrm>
            <a:off x="44280" y="1241280"/>
            <a:ext cx="906156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31760" y="896760"/>
            <a:ext cx="8872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Links to EUPORIAS/NACLIM, but also IS-ENES2, PREFACE, EUCLEIA, CLIPC,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Text Box 9"/>
          <p:cNvSpPr/>
          <p:nvPr/>
        </p:nvSpPr>
        <p:spPr>
          <a:xfrm rot="19714800">
            <a:off x="189720" y="278964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  <a:ea typeface="Arial"/>
              </a:rPr>
              <a:t>Climate data is not climate informa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NRM-CM’s correlation for ensemble-mean predictions of DJF (one-month lead time) tropical precipitation, Northern Hemisphere Z500 and NAO as a function of the ensemble size. Red lines for 90% confidence interv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hortcuts: ensemble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annuel2014b-figa"/>
          <p:cNvPicPr/>
          <p:nvPr/>
        </p:nvPicPr>
        <p:blipFill>
          <a:blip r:embed="rId1"/>
          <a:stretch/>
        </p:blipFill>
        <p:spPr>
          <a:xfrm>
            <a:off x="384120" y="1714680"/>
            <a:ext cx="8345520" cy="4270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-289440" y="5894280"/>
            <a:ext cx="3087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M. Déqué (Météo-France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11B46-BA91-47D5-9114-4C861C16C608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1440C-C32C-42B3-A5E5-414C30E8B78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olution and uncertain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dictions with EC-Earth3 started every May over 1993-2009 with ERAInt and GLORYS2v1 initial conditions, and internal sea-ice reconstru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-204480" y="5840280"/>
            <a:ext cx="258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llprat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0" y="2370240"/>
            <a:ext cx="914400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F1714-620F-49A4-8A2C-C6F32AF04CE8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41785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ical forecasts of one-month lead temperature (right panel) and precipitation using a wide range of observed predi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ised empirical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259560" y="5880240"/>
            <a:ext cx="29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Eden et al. (GMD, 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17640" y="3890880"/>
            <a:ext cx="4294080" cy="1971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4222800" y="1095480"/>
            <a:ext cx="4867200" cy="5067360"/>
          </a:xfrm>
          <a:prstGeom prst="rect">
            <a:avLst/>
          </a:prstGeom>
          <a:ln w="0">
            <a:noFill/>
          </a:ln>
        </p:spPr>
      </p:pic>
      <p:sp>
        <p:nvSpPr>
          <p:cNvPr id="19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3D4E8-4CF5-4283-BA8E-5ADDE4485E7A}" type="slidenum">
              <a:rPr b="0" lang="es-ES" sz="16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 SPECS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most 100 papers published or in p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s of coordinated prediction experi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s of terabytes of data available from BAD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rdinated case studies (data provided people outside SPE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Arial"/>
              </a:rPr>
              <a:t>, 26 April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45:56Z</dcterms:created>
  <dc:creator>Franziska Ewald de Aceves</dc:creator>
  <dc:description/>
  <dc:language>en-US</dc:language>
  <cp:lastModifiedBy>lcaron</cp:lastModifiedBy>
  <dcterms:modified xsi:type="dcterms:W3CDTF">2016-04-25T22:38:06Z</dcterms:modified>
  <cp:revision>493</cp:revision>
  <dc:subject/>
  <dc:title>Presentación de PowerPoint</dc:title>
</cp:coreProperties>
</file>